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331-252D-4B9E-B70D-B01C3FC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CEF-7074-4913-9016-2F26775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9C8-0ABA-4CF5-9A30-0563D8FE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99D-B34D-4BA7-9E2E-CC8CEBBA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E8D6-761D-43A8-A2C3-CE9F034E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74D7-DC02-4CC6-AF8C-56FDBAB2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20C7-B9BC-4A83-9F98-B4CF6396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4E8-2FBA-40DB-989C-99FE7F2A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6E26-C77C-495A-9D7C-25E17EB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E59-4A75-41D3-9057-0398436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9AB9-FDEA-49DD-BDF8-FA4BB635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131-B61B-4B31-BD79-350800B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346-56BE-45AC-9FB8-22CD7B6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B57C-8470-47D1-BF80-B6387EB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8EE-13DA-4C29-B7B1-43A278F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ECB6-DC15-4535-BE5C-7E977CE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132-5F5B-4895-B2F3-0A01D11B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4A8D-2B53-4D1E-92AD-58DDAB2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8478-E9CB-43DB-B79D-42D9B40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48D5-BB52-4800-A93C-81472DED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4673-F732-4EEB-A3FF-D39DAF5F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5B0F-A7D5-4EF0-907C-9D6137D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863-C4A0-4020-88A3-AEE47FB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27CF-6A30-4134-AE4E-0AD27D6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23A2-6DF7-48D3-8B02-7EA1645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C9D0-BB96-4125-A160-12E2395E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CF08-C3ED-4B10-B016-55C20A6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250E-E144-4193-AA9D-A5D85D96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3E0B-0B25-43D0-AECE-95DC41F5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FBAA-97A1-49D8-83D5-D0D4E3D4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E951-7CDD-4E45-B78D-B04454F5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F1C2-D202-4C05-AF1B-3252C20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D465-42F2-44E1-8B4F-94C44E1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8AF-6D2F-46DF-A454-CC9B4B0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55E7-C074-44AD-B463-7C92D57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3BCA-65E0-4C61-BFE0-308F94B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C294-5D75-4ECE-99C1-FF13036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19A1-D827-4EF0-8405-13E111B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DBE7-E446-4EDF-9FE7-B608553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6D00-395F-4317-A8B6-9DF702E4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8900-C737-4D28-A15B-ED63831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1A3E-BFEE-40C2-AD6D-E9BA57DC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A1F7-AA34-4DAE-9A2D-4A947E65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E07A-D346-4235-A3AB-A9D6095D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AFE-B91F-43C7-B22F-823BB334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1A59-633D-4F18-BAB4-ABD6517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7207-9458-4308-A0BE-64BF046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4068-D868-4C92-9E48-F0728F15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F5BD-88F9-482E-A74F-37ABCE0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B880-82EA-4572-A801-3077819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261C-C25D-4AF6-809D-9152A49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05126-28DC-4FAF-A7F8-E63462B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5DBD-A9A6-4680-8A80-3838F5D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865B-EBC0-4C64-A39C-C037D30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D792-5EE2-4005-89DE-0344629E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C31-9BB2-4C16-966C-6FC3C7F7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A612-6005-4A42-92C4-52ABBF1C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8C26-B86A-48F8-957F-546E7CE2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938B-FE2A-40F9-931F-6B6D0A5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668D-1F80-4CA7-8F26-575EB0C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8606-DA18-4BE5-A962-09CC39B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F2BF-76B5-4F62-B3E7-F5742A00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9B1B-276C-40F5-89CF-B01E286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9064-E940-4842-B18A-7CE51B9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0926A-24E8-412E-9357-53709CC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314C-B417-4DA0-83CF-DCE4CEA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8D2-3D65-433A-8B93-3391918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45A2-67B9-4765-833A-0B81C2B9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14A4-E9F4-4734-A40B-9331C66C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7B39-D715-4F70-A417-097D54F0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C429-418F-406E-A943-D2320AB7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16CD-CF2D-4B4F-A662-68327EF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4478-6681-4A2F-B5FD-E2281B07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70F5-71EE-487D-B263-D642C38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6D8C-A6C8-446C-95F5-F600759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4624-EA75-449E-BA51-180B0BC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5FE8-56C5-402F-84A5-7AB96E7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640-AAFF-4CD3-905D-C97091E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DA3F-C18E-4CC2-A217-15180C2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0FA8A-F84D-4D4E-BA40-33FC965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2865-B23B-4788-9DC6-F9A36BDB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E0FB-8947-4C55-9D0E-3549F7ED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0DF9-6099-43FD-A037-10087223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E79-0D5D-4F40-A336-2730E11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A5B-1875-47C1-82B0-F62F79FCEFF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D8F-A916-44AC-95F0-274589768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E50-B2F8-47AF-8861-CC81773112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657-85CB-4AFE-81B6-5033680657B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B6C-FD66-443A-A3A2-E48512F75A5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2D1-4AB6-41B6-947A-94B12946DB5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A91D-974C-4C6C-807F-73233E1A077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 25 EDUCATIONAL TECHNOLOGY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rst Semester, SY 2O10-20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blog.taragana.com/wp-content/uploads/2009/02/ms-office.png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4457880" y="167652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306" name="Tit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4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0070c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 an end in itsel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lnSpc>
                <a:spcPct val="90000"/>
              </a:lnSpc>
              <a:buClr>
                <a:srgbClr val="0070c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i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produce information that will help address the research problem at han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action.walmartwatch.com/page/-/blog/thumbs%20up.jpg"/>
          <p:cNvPicPr/>
          <p:nvPr/>
        </p:nvPicPr>
        <p:blipFill>
          <a:blip r:embed="rId1"/>
          <a:stretch/>
        </p:blipFill>
        <p:spPr>
          <a:xfrm>
            <a:off x="6781680" y="4648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309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the objectives of the research work well defin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variables are involved in the study? Are they quantitative or qualitati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the instrument jibe with the objectiv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33520" y="4060440"/>
            <a:ext cx="8229600" cy="264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ing of Dat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also data editing, if necessar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adjusting the data (if requir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6" descr="http://www.twolia.com/blogs/teacups-and-couture/files/2010/03/richard-stacks-cat-observing-goldfish-in-an-aquarium.jpg"/>
          <p:cNvPicPr/>
          <p:nvPr/>
        </p:nvPicPr>
        <p:blipFill>
          <a:blip r:embed="rId2"/>
          <a:stretch/>
        </p:blipFill>
        <p:spPr>
          <a:xfrm>
            <a:off x="2743200" y="152388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282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e RECTANGULAR ARR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6160" indent="-25632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monly use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6160" indent="-25632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st efficient form for statistical analysi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644720" y="244944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http://www.ekanna.net/wp-content/uploads/2009/02/ekanna_excel_array.png"/>
          <p:cNvPicPr/>
          <p:nvPr/>
        </p:nvPicPr>
        <p:blipFill>
          <a:blip r:embed="rId3"/>
          <a:stretch/>
        </p:blipFill>
        <p:spPr>
          <a:xfrm>
            <a:off x="4572000" y="1752480"/>
            <a:ext cx="424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1774440"/>
            <a:ext cx="8381880" cy="302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ad our Sample Prob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25560" indent="-514440">
              <a:spcBef>
                <a:spcPts val="876"/>
              </a:spcBef>
              <a:buClr>
                <a:srgbClr val="00206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heck hypothes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25560" indent="-514440">
              <a:spcBef>
                <a:spcPts val="876"/>
              </a:spcBef>
              <a:buClr>
                <a:srgbClr val="00206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nderstand the variabl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2" descr="http://spiderman.psych.purdue.edu/problem_solving/people/images/thinker1-composition5-small2.jpg"/>
          <p:cNvPicPr/>
          <p:nvPr/>
        </p:nvPicPr>
        <p:blipFill>
          <a:blip r:embed="rId2"/>
          <a:stretch/>
        </p:blipFill>
        <p:spPr>
          <a:xfrm>
            <a:off x="6858000" y="4952880"/>
            <a:ext cx="1981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 the questionnai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4" descr="http://ypsh.squarespace.com/storage/ypsh-resources/yp_questionnaire_screen.gif"/>
          <p:cNvPicPr/>
          <p:nvPr/>
        </p:nvPicPr>
        <p:blipFill>
          <a:blip r:embed="rId2"/>
          <a:stretch/>
        </p:blipFill>
        <p:spPr>
          <a:xfrm>
            <a:off x="5029200" y="2438280"/>
            <a:ext cx="4762440" cy="68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440"/>
            <a:ext cx="8229600" cy="1730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3. CODE THE RESPONS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4. Complete your code shee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http://www.momsprosperitynetwork.com/wp-content/writing-by-lavinia-marin-compressed.jpg"/>
          <p:cNvPicPr/>
          <p:nvPr/>
        </p:nvPicPr>
        <p:blipFill>
          <a:blip r:embed="rId2"/>
          <a:stretch/>
        </p:blipFill>
        <p:spPr>
          <a:xfrm>
            <a:off x="5486400" y="3733920"/>
            <a:ext cx="3247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. TREAT THE DATA (Spreadshee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http://www.youthchg.com/bulb3.jpg"/>
          <p:cNvPicPr/>
          <p:nvPr/>
        </p:nvPicPr>
        <p:blipFill>
          <a:blip r:embed="rId2"/>
          <a:stretch/>
        </p:blipFill>
        <p:spPr>
          <a:xfrm>
            <a:off x="1981080" y="2514600"/>
            <a:ext cx="5079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avid</cp:lastModifiedBy>
  <dcterms:modified xsi:type="dcterms:W3CDTF">2010-07-14T02:27:00Z</dcterms:modified>
  <cp:revision>6</cp:revision>
  <dc:subject/>
  <dc:title>DATA  ANALYSIS</dc:title>
</cp:coreProperties>
</file>